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902-ABD1-40F0-B924-F5CFAAD3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710-14F8-493B-9DF2-C5A30C77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A4B-F3E2-491A-942D-7A5C023E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4C7-FCEE-47A9-8824-D2A72A23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5B9-7E49-4BED-A5A8-004FBFF9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C4A-9DBC-4476-BF3C-35923586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EEC-4621-4CBF-92C9-3FE5D7D3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AAF-3B2E-4A5C-B7D4-3092CF77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2CF-AD6D-4AD6-B2C4-ABB334DC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52F-FE51-4126-899F-2C2D9BFD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581-838A-4A92-92E9-D4E1F3B2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ECA-D64C-4A2D-A60D-9AFFBC32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634C-76BA-4793-9590-8F7B293CE8CB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-228600"/>
            <a:ext cx="815328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فن المح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أحلى طري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للوحدة بين الجم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هي نقاط مهمّة كث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تنحب ودايماً من جدي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ar-JO" sz="4000" spc="-1" strike="noStrike">
                <a:solidFill>
                  <a:srgbClr val="000000"/>
                </a:solidFill>
                <a:latin typeface="Tahoma"/>
                <a:cs typeface="Tahoma"/>
              </a:rPr>
              <a:t>هاي هاي هاي ه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53352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-228600"/>
            <a:ext cx="5715000" cy="12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خلينا نشوف يسو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كلّ النا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نحب الكل مهما ك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حبة لازم من عِنّا تبد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الوحدة دايماً هدف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هاي هاي هاي ها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-228600"/>
            <a:ext cx="5181480" cy="132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حتى الأعداء لازم نح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كل واحد مثل نفسنا نح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حبة بتحمل فرح جد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سعادة إلنا وللجميع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هاي هاي هاي ها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3:36:34Z</dcterms:created>
  <dc:creator>user</dc:creator>
  <dc:description/>
  <dc:language>en-US</dc:language>
  <cp:lastModifiedBy>user</cp:lastModifiedBy>
  <dcterms:modified xsi:type="dcterms:W3CDTF">2006-05-05T05:41:18Z</dcterms:modified>
  <cp:revision>9</cp:revision>
  <dc:subject/>
  <dc:title>Slide 1</dc:title>
</cp:coreProperties>
</file>